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50418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5332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0000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4668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9336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177480"/>
            <a:ext cx="10464840" cy="259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760"/>
            <a:ext cx="10464840" cy="698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0956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154160" indent="-4939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598760" indent="-4939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204300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48760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48760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48760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05040"/>
            <a:ext cx="396252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4611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988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389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2768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167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167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167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50418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5332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0000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4668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9336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71640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21040" indent="-5202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25320" indent="-5202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2960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3424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3424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3424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6847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7172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45836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45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31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31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31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3677760" y="3773160"/>
            <a:ext cx="56473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400" spc="-1" strike="noStrike">
                <a:solidFill>
                  <a:srgbClr val="000000"/>
                </a:solidFill>
                <a:latin typeface="Gill Sans"/>
                <a:ea typeface="Gill Sans"/>
              </a:rPr>
              <a:t>Aula 5</a:t>
            </a:r>
            <a:endParaRPr b="0" lang="en-US" sz="1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723960"/>
            <a:ext cx="130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Fim de Ano no Brasi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"/>
          <p:cNvSpPr/>
          <p:nvPr/>
        </p:nvSpPr>
        <p:spPr>
          <a:xfrm>
            <a:off x="698400" y="1797120"/>
            <a:ext cx="11620440" cy="43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uriosidad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- 99% das empresas dão algum tipo de brinde para seus funcionário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Os presentes da empresa chama-se de 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brinde corporativo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- Os brasileiros gostam de usar roupas brancas para trazer sorte no ano que esta chegando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"/>
          <p:cNvSpPr/>
          <p:nvPr/>
        </p:nvSpPr>
        <p:spPr>
          <a:xfrm>
            <a:off x="1581480" y="7534800"/>
            <a:ext cx="8876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Qual curiosidade você descobriu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1694520" y="481320"/>
            <a:ext cx="9614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Pretérito Imperfeito (unidades 16, 17 e 18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"/>
          <p:cNvSpPr/>
          <p:nvPr/>
        </p:nvSpPr>
        <p:spPr>
          <a:xfrm>
            <a:off x="2880360" y="1540440"/>
            <a:ext cx="1617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FAL</a:t>
            </a:r>
            <a:r>
              <a:rPr b="1" lang="en-US" sz="4200" spc="-1" strike="noStrike">
                <a:solidFill>
                  <a:srgbClr val="ff2712"/>
                </a:solidFill>
                <a:latin typeface="Gill Sans"/>
                <a:ea typeface="Gill Sans"/>
              </a:rPr>
              <a:t>A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>
            <a:off x="5529600" y="1540440"/>
            <a:ext cx="2527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ESCREV</a:t>
            </a:r>
            <a:r>
              <a:rPr b="1" lang="en-US" sz="4200" spc="-1" strike="noStrike">
                <a:solidFill>
                  <a:srgbClr val="ff2712"/>
                </a:solidFill>
                <a:latin typeface="Gill Sans"/>
                <a:ea typeface="Gill Sans"/>
              </a:rPr>
              <a:t>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8813160" y="1540440"/>
            <a:ext cx="1854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ART</a:t>
            </a:r>
            <a:r>
              <a:rPr b="1" lang="en-US" sz="4200" spc="-1" strike="noStrike">
                <a:solidFill>
                  <a:srgbClr val="ff2712"/>
                </a:solidFill>
                <a:latin typeface="Gill Sans"/>
                <a:ea typeface="Gill Sans"/>
              </a:rPr>
              <a:t>I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"/>
          <p:cNvSpPr/>
          <p:nvPr/>
        </p:nvSpPr>
        <p:spPr>
          <a:xfrm>
            <a:off x="395640" y="2249280"/>
            <a:ext cx="1747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eu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ocê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ele/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nó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ocê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eles/a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>
            <a:off x="2769120" y="2962800"/>
            <a:ext cx="1838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fal </a:t>
            </a:r>
            <a:r>
              <a:rPr b="1" lang="en-US" sz="4200" spc="-1" strike="noStrike">
                <a:solidFill>
                  <a:srgbClr val="ff2712"/>
                </a:solidFill>
                <a:latin typeface="Gill Sans"/>
                <a:ea typeface="Gill Sans"/>
              </a:rPr>
              <a:t>AV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"/>
          <p:cNvSpPr/>
          <p:nvPr/>
        </p:nvSpPr>
        <p:spPr>
          <a:xfrm>
            <a:off x="2159640" y="4740840"/>
            <a:ext cx="3061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fal </a:t>
            </a:r>
            <a:r>
              <a:rPr b="1" lang="en-US" sz="4200" spc="-1" strike="noStrike">
                <a:solidFill>
                  <a:srgbClr val="ff2712"/>
                </a:solidFill>
                <a:latin typeface="Gill Sans"/>
                <a:ea typeface="Gill Sans"/>
              </a:rPr>
              <a:t>ÁVAMO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"/>
          <p:cNvSpPr/>
          <p:nvPr/>
        </p:nvSpPr>
        <p:spPr>
          <a:xfrm>
            <a:off x="2517840" y="5553720"/>
            <a:ext cx="2341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fal </a:t>
            </a:r>
            <a:r>
              <a:rPr b="1" lang="en-US" sz="4200" spc="-1" strike="noStrike">
                <a:solidFill>
                  <a:srgbClr val="ff2712"/>
                </a:solidFill>
                <a:latin typeface="Gill Sans"/>
                <a:ea typeface="Gill Sans"/>
              </a:rPr>
              <a:t>AVA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>
            <a:off x="5911200" y="2937600"/>
            <a:ext cx="2318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escrev </a:t>
            </a:r>
            <a:r>
              <a:rPr b="1" lang="en-US" sz="4200" spc="-1" strike="noStrike">
                <a:solidFill>
                  <a:srgbClr val="ff2712"/>
                </a:solidFill>
                <a:latin typeface="Gill Sans"/>
                <a:ea typeface="Gill Sans"/>
              </a:rPr>
              <a:t>I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"/>
          <p:cNvSpPr/>
          <p:nvPr/>
        </p:nvSpPr>
        <p:spPr>
          <a:xfrm>
            <a:off x="5301000" y="4715640"/>
            <a:ext cx="3540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escrev </a:t>
            </a:r>
            <a:r>
              <a:rPr b="1" lang="en-US" sz="4200" spc="-1" strike="noStrike">
                <a:solidFill>
                  <a:srgbClr val="ff2712"/>
                </a:solidFill>
                <a:latin typeface="Gill Sans"/>
                <a:ea typeface="Gill Sans"/>
              </a:rPr>
              <a:t>ÍAMO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"/>
          <p:cNvSpPr/>
          <p:nvPr/>
        </p:nvSpPr>
        <p:spPr>
          <a:xfrm>
            <a:off x="5928480" y="5502960"/>
            <a:ext cx="2294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om </a:t>
            </a:r>
            <a:r>
              <a:rPr b="1" lang="en-US" sz="4200" spc="-1" strike="noStrike">
                <a:solidFill>
                  <a:srgbClr val="ff2712"/>
                </a:solidFill>
                <a:latin typeface="Gill Sans"/>
                <a:ea typeface="Gill Sans"/>
              </a:rPr>
              <a:t>IA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"/>
          <p:cNvSpPr/>
          <p:nvPr/>
        </p:nvSpPr>
        <p:spPr>
          <a:xfrm>
            <a:off x="9501120" y="2899440"/>
            <a:ext cx="1753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art</a:t>
            </a:r>
            <a:r>
              <a:rPr b="1" lang="en-US" sz="4200" spc="-1" strike="noStrike">
                <a:solidFill>
                  <a:srgbClr val="ff2712"/>
                </a:solidFill>
                <a:latin typeface="Gill Sans"/>
                <a:ea typeface="Gill Sans"/>
              </a:rPr>
              <a:t> I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>
            <a:off x="8880840" y="4677480"/>
            <a:ext cx="2975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art </a:t>
            </a:r>
            <a:r>
              <a:rPr b="1" lang="en-US" sz="4200" spc="-1" strike="noStrike">
                <a:solidFill>
                  <a:srgbClr val="ff2712"/>
                </a:solidFill>
                <a:latin typeface="Gill Sans"/>
                <a:ea typeface="Gill Sans"/>
              </a:rPr>
              <a:t>ÍAMO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"/>
          <p:cNvSpPr/>
          <p:nvPr/>
        </p:nvSpPr>
        <p:spPr>
          <a:xfrm>
            <a:off x="9252000" y="5553720"/>
            <a:ext cx="2256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art </a:t>
            </a:r>
            <a:r>
              <a:rPr b="1" lang="en-US" sz="4200" spc="-1" strike="noStrike">
                <a:solidFill>
                  <a:srgbClr val="ff2712"/>
                </a:solidFill>
                <a:latin typeface="Gill Sans"/>
                <a:ea typeface="Gill Sans"/>
              </a:rPr>
              <a:t>IA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7677000"/>
            <a:ext cx="1238256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onjugação usada para TODOS os verbos (regulares e irregulares). Exceção: </a:t>
            </a:r>
            <a:r>
              <a:rPr b="0" lang="en-US" sz="4200" spc="-1" strike="noStrike">
                <a:solidFill>
                  <a:srgbClr val="ff2712"/>
                </a:solidFill>
                <a:latin typeface="Gill Sans"/>
                <a:ea typeface="Gill Sans"/>
              </a:rPr>
              <a:t>SER, TER, VIR, POR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431640" y="3213000"/>
            <a:ext cx="12027240" cy="43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Helvetic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ue profissão você sonhava em seguir quando você era criança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Helvetic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cê cursou a faculdade que você queria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Helvetic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cê está na profissão que você sonhava quando era mais jovem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Helvetic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 que você fazia antigamente que não faz mais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Helvetic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 que você fazia no seu primeiro emprego? você gostava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"/>
          <p:cNvSpPr/>
          <p:nvPr/>
        </p:nvSpPr>
        <p:spPr>
          <a:xfrm>
            <a:off x="4547160" y="1781640"/>
            <a:ext cx="2612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Respond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1694520" y="481320"/>
            <a:ext cx="9614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Pretérito Imperfeito (unidades 16, 17 e 18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"/>
          <p:cNvSpPr/>
          <p:nvPr/>
        </p:nvSpPr>
        <p:spPr>
          <a:xfrm>
            <a:off x="506520" y="1409760"/>
            <a:ext cx="115077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Usa-se para falar d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Acontecimento frequente e/ou durativo (no passado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Antigamente, eu pegava o metrô todos os dias para ir ao trabalho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Eu sempre tinha reunião com minha gerente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"/>
          <p:cNvSpPr/>
          <p:nvPr/>
        </p:nvSpPr>
        <p:spPr>
          <a:xfrm>
            <a:off x="495360" y="3632040"/>
            <a:ext cx="98550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Ação Habitual (Costumar + V.I.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"/>
          <p:cNvSpPr/>
          <p:nvPr/>
        </p:nvSpPr>
        <p:spPr>
          <a:xfrm>
            <a:off x="-43200" y="4215240"/>
            <a:ext cx="72381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Nós costumávamos almoçar juntos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Costumava viajar muito. Agora viajo pouco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"/>
          <p:cNvSpPr/>
          <p:nvPr/>
        </p:nvSpPr>
        <p:spPr>
          <a:xfrm>
            <a:off x="495360" y="5321160"/>
            <a:ext cx="98550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Idade e Horas (no passado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"/>
          <p:cNvSpPr/>
          <p:nvPr/>
        </p:nvSpPr>
        <p:spPr>
          <a:xfrm>
            <a:off x="-538920" y="5834520"/>
            <a:ext cx="128829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Ele tinha vinte ano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quando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 arrumou seu primeiro trabalho. (P.I. quando P.P.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Eram duas horas da manhã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quando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 terminei o relatório. (P.I. quando P.P.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"/>
          <p:cNvSpPr/>
          <p:nvPr/>
        </p:nvSpPr>
        <p:spPr>
          <a:xfrm>
            <a:off x="495360" y="6959520"/>
            <a:ext cx="9855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Ações Simultâneas (no passado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"/>
          <p:cNvSpPr/>
          <p:nvPr/>
        </p:nvSpPr>
        <p:spPr>
          <a:xfrm>
            <a:off x="482760" y="7493040"/>
            <a:ext cx="125348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Tínhamos muito trabalho no departamento ontem.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Enquanto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 a Maria fazia ligações para o Brasil, eu terminava o relatório anual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694520" y="481320"/>
            <a:ext cx="9614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Pretérito Imperfeito (unidades 16, 17 e 18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"/>
          <p:cNvSpPr/>
          <p:nvPr/>
        </p:nvSpPr>
        <p:spPr>
          <a:xfrm>
            <a:off x="673200" y="3009960"/>
            <a:ext cx="1165860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rie uma frase no passado para cada situação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Frequentativ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Durativ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ostumar + V.I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Idade/Hora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Ações Simultânea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4715640" y="435600"/>
            <a:ext cx="3571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Lição de Cas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"/>
          <p:cNvSpPr/>
          <p:nvPr/>
        </p:nvSpPr>
        <p:spPr>
          <a:xfrm>
            <a:off x="1092240" y="2565360"/>
            <a:ext cx="1080756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Unidades 16-19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Descreva dez coisas que você fazia antigamente no passado que você não faz mais. 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